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6770-BEEE-4347-A60E-8CA40CA9F6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9CD5-143A-4359-8154-6A4A16E0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B031-10F7-44E5-A74E-EEB692A9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0EF2-BB28-4986-8610-0B8FB57C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9DC5-4F96-493C-8E0C-61827451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D5A05-5A88-4F5F-A332-36F57BEB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997BC-AD9B-4952-97E6-0A8238FE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181CE-77FF-4656-9F1E-80132206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2579A-84BF-4C62-94F0-BA9C1CA4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7BC31-3FBE-4C44-BD34-79FBE91F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8D3CB-B05B-4CF2-A2C7-55A0ACA3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27A62-739F-4458-9F5C-FAEFCA9F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CFB4-2527-4FE3-9F34-1770DFAA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1E24B-0825-4B94-A68B-B44E309C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91EDE-29E6-4CCB-87C2-13E4E078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A599B-C280-452F-B1A9-5CF03C2B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E1BCE-8C9B-4396-9CB2-191DA8BB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5A434-F19C-4E6F-B7FC-DB432BB3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DE2835-65B6-495A-AB96-E09FE407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BA8025-A695-41EA-A823-4614FB14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73252A-5CD9-477E-A64C-3BB57980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1B06ED-81A7-4111-B635-5FC1E9E6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A4D450-272B-48A9-B853-100C1195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5C42-B3D9-47CF-A8B4-7F01F7D6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9F3B87-2B95-416F-B4DE-6403EF2C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2ADF96-ADF0-47CA-B142-16A8C581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D2B7A4-2282-41DC-A086-AEE21F6D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008FDA-E0E3-4752-BB64-37CFE7BF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D14C76-FAF6-4C4A-8990-CF839086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193EC5-FCC2-4A45-8EEC-B4189C3C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7FD255-F23E-42AE-A1DC-3829BD91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9C73-3F4D-4E58-BAFB-F4DCFB42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B306-E0C4-44C8-830E-5A736045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A473-FA38-4CD5-B09B-0AA62BF6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32BC-8BCC-4E30-80E4-44DCB49C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A6AC-3E08-45DA-A77F-74458961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DB9C-3898-4A00-AD65-4D5292C5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F42A-A7C5-4F5A-8BAA-7B478EE760AC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2AD4-7CDD-4F34-9E5B-754691476754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FECD-3421-43B9-AFD4-BBB2B67A5469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E6DB-B51C-4E33-A030-A9BAAE841F38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F9C3-8E2E-4884-8509-7657475E881C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509B-905F-42ED-B4D4-8F60764A639D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of Container Wago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4280" y="6093000"/>
            <a:ext cx="2654280" cy="461880"/>
            <a:chOff x="134280" y="6093000"/>
            <a:chExt cx="265428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400" y="6308640"/>
              <a:ext cx="26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_2015-01-20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4280" y="60930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cument title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120A-9A13-4832-B18D-90ACC1589C9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20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B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3CA0-18A2-4B22-AA95-E6137CF9DDD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Textfeld 5"/>
          <p:cNvSpPr/>
          <p:nvPr/>
        </p:nvSpPr>
        <p:spPr>
          <a:xfrm rot="20397600">
            <a:off x="64339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22320" y="2255760"/>
            <a:ext cx="9883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 of results and comment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ssential aspect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ects intentionally left out of the analysis, the impact of which is as follows: (…)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y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 present value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ak-even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years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year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positive value:  revenue,    negative values: 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break-even:   number of years until the alternative option becomes advantageou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annuity:  average annual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A8BE-8FCD-46E6-BF87-932BE944D76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ponsible Departmen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tenance documentation 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Origi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riation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alternative option to basic op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y Performance Indicato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age between reprofiling wheel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ADA3-3464-4AE6-AD8D-B0B87CD900E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7" name="Textfeld 1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-and-loss chart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Delta of variant “B” in relation to variant “A” [= zero lin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0D68-50A8-43D8-8C71-F8B837324A5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1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3" name="Picture 303" descr=""/>
          <p:cNvPicPr/>
          <p:nvPr/>
        </p:nvPicPr>
        <p:blipFill>
          <a:blip r:embed="rId1"/>
          <a:stretch/>
        </p:blipFill>
        <p:spPr>
          <a:xfrm>
            <a:off x="878040" y="1446120"/>
            <a:ext cx="8132760" cy="518976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4"/>
          <p:cNvSpPr/>
          <p:nvPr/>
        </p:nvSpPr>
        <p:spPr>
          <a:xfrm rot="20397600">
            <a:off x="62053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eak-even char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E92A-9B25-4A68-B2AB-E1018E6A792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Textfeld 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85978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recommended to purchase the container wagon made by company B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ed Option / Recommend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cause of the radial adjustability of the wheelsets, the wear rate of the wheels is lower and the lifetime of the wheels and the reprofiling cycle are therefore considerably lo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e to the higher quality of the container locks, maintenance expenditure is lower compared with the container wagon made by company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natory Statement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-even:     13 year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erage Annual Savings     (Delta Annuity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rify financial optio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condition for Implement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a purchase time schedule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tain approval from financial controlling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rther Procedure        Target Date / Responsibiliti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67E2-0959-4A26-A982-AA8D03CBB07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0" name="Textfeld 1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val 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73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mpiled by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74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Traceability of implementati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76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9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1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82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5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6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7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93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alidated by client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94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95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9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401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6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7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8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9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0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1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2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3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14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1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1A8C-3F76-4F2B-A6AE-7516743C70B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6" name="Textfeld 49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chase of 85 new container flat wagons, each carrying 60’ in total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operator’s quality gate (filter) has been applied, only the container flat wagons of the two companies A and B remai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onsible for the LCC calculation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s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/09/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/01/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Life Cycle Costs of both remaining wagons are to be calculat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Client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rting 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tas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iginator of the LCC calculation, dat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7320" y="6419880"/>
            <a:ext cx="494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ed,  A = Agreed  D = Decided,  P = Preconditions in place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c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D          P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99C2-44E5-4550-A5B9-C15DC183FCB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 Framework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relevant / relevant, but not part of the 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ained in the 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rmined on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7004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7004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container locking 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5448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 replacement of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5448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ingle Sgns-type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53040" y="41162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76520" y="40766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-type 380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of other parts of the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consumption while operat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access charg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ading / unload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B403-5D69-41C9-A013-C7960CFA1DC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3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Breakdown Structure / System Environment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unted par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carriag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else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872800" y="4218840"/>
            <a:ext cx="179604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872800" y="5515920"/>
            <a:ext cx="181512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7F51-B117-4717-966D-DFBBD434FD4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20"/>
          <p:cNvSpPr/>
          <p:nvPr/>
        </p:nvSpPr>
        <p:spPr>
          <a:xfrm rot="20397600">
            <a:off x="628164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61468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. Oper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703600" y="1944720"/>
            <a:ext cx="21780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1 Energ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2 Staf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3 Clean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4 Making avail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 Insurance /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6 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 Infrastructure u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 seg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b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track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ipment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04180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. Mainten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472520" y="1484280"/>
            <a:ext cx="233820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V. Product Failu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48480" y="1936800"/>
            <a:ext cx="21481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1  Product 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3  Malfunc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plann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1  Pro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3  Malfun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0160" y="1496880"/>
            <a:ext cx="2315880" cy="468180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chase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16080" y="1949400"/>
            <a:ext cx="211608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One-off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Recurrent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assembly 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ommissioning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116680" y="1936800"/>
            <a:ext cx="212868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0 “One-off” prepar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ection / Diagnostic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4 Condition-bas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7 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system for vehicl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CC cost blocks used for the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49400" y="6194520"/>
            <a:ext cx="65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)  For simplicity’s sake, the term “purchase” also comprises residual costs as well as disposal / further utilisation.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72880" y="2998800"/>
            <a:ext cx="218304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097600" y="4092480"/>
            <a:ext cx="2182680" cy="37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089680" y="31590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0FBF-E097-4953-B91C-5F372E58084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Textfeld 15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pose &amp; brief description of each op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reduced maintenance expenditure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well-known characteristics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d to the existing wagon type, both the lifetime of the wheels and the reprofiling cycle are extended. The reliability of container lockings will be significantly improve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wer investment cost may result in maintenance expenditure being the same as today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0BF8-E101-47EC-9322-349BDDECD78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Textfeld 11"/>
          <p:cNvSpPr/>
          <p:nvPr/>
        </p:nvSpPr>
        <p:spPr>
          <a:xfrm rot="20397600">
            <a:off x="48337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nts: list of principal difference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 rate:                 10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 rate:                   3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 span of wagon:      25 year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nual mileage:          115,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nings are fixed and equivalent for both options. For this reason only the cost structure of the two options will be compar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rks concerning general assumptions for all options, comments and critical factor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wheelse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running gear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container loc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ance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container locks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5552-47F5-47DA-BA19-D58257EE4EA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Textfeld 20"/>
          <p:cNvSpPr/>
          <p:nvPr/>
        </p:nvSpPr>
        <p:spPr>
          <a:xfrm rot="20397600">
            <a:off x="55195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osition of Cost and Cycle Dat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,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,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92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container lock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18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9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rrective maintenance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profiling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7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C80E-7C08-40B5-AB08-F50FD4DFA0D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2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FDD6-C539-4753-A933-AA731678D8D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Textfeld 4"/>
          <p:cNvSpPr/>
          <p:nvPr/>
        </p:nvSpPr>
        <p:spPr>
          <a:xfrm rot="20397600">
            <a:off x="59767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2320" y="2252520"/>
            <a:ext cx="9878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3T13:14:47Z</dcterms:modified>
  <cp:revision>83</cp:revision>
  <dc:subject/>
  <dc:title>Slide 0</dc:title>
</cp:coreProperties>
</file>